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8F2-0680-4F21-A471-E7794DCE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469-23A4-4D32-B205-2623D3E6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81F-12EF-4CAA-9734-4B13C419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F00-E3A1-44B7-A473-93B16FC6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1F5-2ECF-4547-BBE9-1543255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43B-AA67-4550-B8A5-EB38F3CB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F6C-46D2-4B5C-862A-1E97AD6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85-FCF4-4CAB-ABE1-99D5C74E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FF5-5B14-478B-A9D3-9512EBC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970-CEFE-4393-90C2-ED71CC0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932-4935-4428-A999-907C16C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830-4DB6-4B68-BA92-2DD43EE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3E56-C5CE-4380-93D2-5F1B1D4628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"/>
              </a:rPr>
              <a:t>Feature Artic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03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7040" y="51530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riter sometimes organize their ideas by telling things in the order that they happen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79404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e call this organizing in </a:t>
            </a:r>
            <a:r>
              <a:rPr b="0" lang="en-US" sz="36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Here’s an example……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Making a Chocolate Sunda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447920"/>
            <a:ext cx="52578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rst, you will need to put two or three scoops of vanilla ice cream in a bowl.  Then you pour chocolate syrup over the ice cream.  Next, you put a dab whip cream on top.  After that, sprinkle chopped nuts over the top.  Finally, top it with cherry.  Now - ENJO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77344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4864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you name the words which show the reader the order of ev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Making a Chocolate Sunda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447920"/>
            <a:ext cx="52578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rs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you will need to put two or three scoops of vanilla ice cream in a bowl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n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you pour chocolate syrup over the ice cream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Nex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you put a dab whip cream on top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fter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sprinkle chopped nuts over the top.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nally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, top it with cherry.  Now - ENJO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773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514600"/>
            <a:ext cx="83818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rs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nex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second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inally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la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after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following that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Palatino"/>
              </a:rPr>
              <a:t> in concl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ords that can be used to show chronological order: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When you’re working on your feature article, notice the way that you are describing things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098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You may be able to help your readers understand by placing events in </a:t>
            </a:r>
            <a:r>
              <a:rPr b="0" lang="en-US" sz="4000" spc="-1" strike="noStrike">
                <a:solidFill>
                  <a:srgbClr val="66ccff"/>
                </a:solidFill>
                <a:latin typeface="Palatino"/>
              </a:rPr>
              <a:t>chronological order</a:t>
            </a: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51:17Z</dcterms:created>
  <dc:creator>Chuck Hatt</dc:creator>
  <dc:description/>
  <dc:language>en-US</dc:language>
  <cp:lastModifiedBy>AAPS</cp:lastModifiedBy>
  <cp:lastPrinted>2005-10-17T19:06:00Z</cp:lastPrinted>
  <dcterms:modified xsi:type="dcterms:W3CDTF">2005-10-20T15:11:47Z</dcterms:modified>
  <cp:revision>7</cp:revision>
  <dc:subject/>
  <dc:title>PowerPoint Presentation</dc:title>
</cp:coreProperties>
</file>